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B8C8-79B5-43B5-BFE6-6564D36ED9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вол Израиля, основа герба Гру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BD8D-6C24-47A3-A399-7FD691D449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8CF-B760-4B75-A73B-B0F00F1D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C1F0-CF6F-4DA6-8842-1D4D3596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58BD-7589-4653-892B-F970BE45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E8D8-5635-4839-977B-AE7830B5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A25B-BD2D-405C-AEA1-05772E42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2FA8-E194-4E24-B8AA-99C795F2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B9E8-8774-4A8F-A39F-D7D56E12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D22E-E56C-4E55-9488-3D7050E7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FDC3-88D0-44BD-8E58-1E56D033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6029-5975-4C35-AEBE-9DCC7036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9C42-7F39-4C52-8FF4-75997999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4A4C-6F2C-4635-BFFD-0FF81186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F626-FD64-4BE5-AEE3-C5B12CE4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196F-0CB0-49A1-BFDF-14B40B00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816E-F409-4B71-AB20-6CEF4B36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EBD7-813E-489B-A100-CF72C8FB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D9B5-6DB4-44AE-BED2-595FD063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164B6-ECAC-4C50-8DCF-19B9C853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E8647-B65A-4F29-8D51-F9A88FF5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A3A9B-89D4-419B-BB8C-830D8DAE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F4FCC-5DCB-4DCD-B786-5D57B566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625FE-257F-40B0-A8BB-00EDE5CC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F846-D8B6-4FCB-90E8-FDB0CA1E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9E04B-4AA9-417F-A2A1-48471C52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3CFFA-EE96-47B8-9403-E8DC66CC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DC2D8-354A-483A-A948-420CBD2E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14C4D-39EF-41FD-8A19-FFF94EDC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14D92-5484-4848-BC1D-EF138527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ADB7E-2E0C-4FA2-9CA8-5AC5D212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D3302-4734-4E40-B460-FDE01CAF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BB7BA-7172-40D4-8F8B-BF9A57E5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5EA28-FCB3-4218-8088-E70B92CF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FE688-8970-4F79-876F-6527F4CB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1816-237E-4A12-8A39-FBF6B402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A19D0-62A3-4D73-88A7-15FEF10B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6608C-AB79-45CC-905A-9AE41818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C38D5-1E25-482A-8BB6-52804639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73BC4-A03F-4C6F-BD3D-F9485425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F396E-3D4D-4FB9-9E29-7328D3B3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E4DE6-9A26-4D02-9930-03A14238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221E4-11DE-4541-923B-7929390A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FA5DA-5271-4B35-BC14-43675EDB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67076-D566-40A8-8BE1-A9C6FDB3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64CCE-9B69-4E8B-90FB-A84EB28D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D8A-AB9C-480D-8041-B747E0EB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6846D-7ACE-477B-A4DE-E00EFB7B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7EB27-DEAB-4189-8745-4BDA5168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8C3E6-F54F-4B6E-9373-088ED568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008A0-3685-4110-8BED-5A6EAC0E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5EBBE-1DD6-4925-B796-72CE9F20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1DFDA-0A3E-4DC8-9732-31A9C255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B6FE8-EE18-4FAF-9BC6-F7CB2E6D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D1D74-B56D-43FC-A9E9-9CC22AA0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12760-C35F-428B-AE94-F46B997C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831E4-0111-4740-907E-372A899E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DE6-4D3F-4B9C-8CAE-FC8D6E01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9F4A9-DCAD-461D-B936-C9F082E5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63263-35EC-45B5-8EA9-F2B0C70F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6C6F2-5E75-44F1-B9ED-37E3AA4A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D46A1-8A86-47C2-9D94-9E2319CF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B33D6-06A2-4C8E-B2F8-F28C449F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FE62B-8577-402F-B034-3F4DD4D7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D0FD8-ABB4-4EC3-A135-4E498B17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23E9E-129C-4141-A21F-E1A7E9FB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D68C8-C55A-46B9-BD46-DE716B3F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26B68-4C12-49FE-B469-366F96B9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D2D6-5712-4B6E-90F6-13D11A51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9367B-D6F1-40BA-AAE3-518A3E73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16C51-764B-46D0-ADC5-0FEEF32B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1BEB7-35CB-48C9-8326-3D7DA110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360B5-C7C0-4818-B462-7A43A1FA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A3E2B-35D8-49BB-816A-2FE0E018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61633-C801-4BBD-BBAA-AC4EA574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1B254-F27D-4419-A808-EEB46FB9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FDB43-9D1B-450A-A302-60DE2761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830C1-8B0C-4487-B635-752EDD3A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41E25-95E1-44B8-B57A-4BFD04B4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24CC-16E8-4388-B124-7E1FA0C1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C4CA1-1884-48C5-81E8-20FA2370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DBFBA-6AB9-4398-8188-F009431F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0673C-D8DB-4A2A-8289-0171704C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23815-DDE5-4C0B-88C5-E1905077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60BDA-6012-4ED7-910E-B1486128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61D0-7409-448D-8AFB-AA31547D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E565-5CBB-4F4C-8FD7-1286D52A870C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2372-CE6A-46C8-B223-9532A62A0592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74DF-0475-4BDD-B353-4B19CB58513F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A2B7-8E98-4343-B1F3-5D44D54AC14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D79A-A488-4661-87AE-C59F1B5F3AEB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4D68-712E-45A5-BEFE-7D35FB2F4A54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A82C-135D-44DD-BD02-3E65C2AC8654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573120" y="1554120"/>
            <a:ext cx="8510400" cy="34815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99680" y="514332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 исследования учеников 8 класса: Яров Иван и Шишкин Петр (транспортиры)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165240" y="146160"/>
            <a:ext cx="85280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796240" cy="357192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3" descr="н.jpeg"/>
          <p:cNvPicPr/>
          <p:nvPr/>
        </p:nvPicPr>
        <p:blipFill>
          <a:blip r:embed="rId2"/>
          <a:stretch/>
        </p:blipFill>
        <p:spPr>
          <a:xfrm>
            <a:off x="1428840" y="4121280"/>
            <a:ext cx="4824360" cy="273672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4" descr="с.jpeg"/>
          <p:cNvPicPr/>
          <p:nvPr/>
        </p:nvPicPr>
        <p:blipFill>
          <a:blip r:embed="rId3"/>
          <a:stretch/>
        </p:blipFill>
        <p:spPr>
          <a:xfrm>
            <a:off x="7500960" y="428760"/>
            <a:ext cx="1262160" cy="94140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5" descr="х.jpeg"/>
          <p:cNvPicPr/>
          <p:nvPr/>
        </p:nvPicPr>
        <p:blipFill>
          <a:blip r:embed="rId4"/>
          <a:stretch/>
        </p:blipFill>
        <p:spPr>
          <a:xfrm>
            <a:off x="0" y="142920"/>
            <a:ext cx="1994040" cy="114300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6" descr="ц.jpeg"/>
          <p:cNvPicPr/>
          <p:nvPr/>
        </p:nvPicPr>
        <p:blipFill>
          <a:blip r:embed="rId5"/>
          <a:stretch/>
        </p:blipFill>
        <p:spPr>
          <a:xfrm>
            <a:off x="6243480" y="3429000"/>
            <a:ext cx="2900520" cy="300024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7" descr="щ.jpeg"/>
          <p:cNvPicPr/>
          <p:nvPr/>
        </p:nvPicPr>
        <p:blipFill>
          <a:blip r:embed="rId6"/>
          <a:stretch/>
        </p:blipFill>
        <p:spPr>
          <a:xfrm rot="436800">
            <a:off x="3785760" y="2642760"/>
            <a:ext cx="2689200" cy="150012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8" descr="i.jpeg"/>
          <p:cNvPicPr/>
          <p:nvPr/>
        </p:nvPicPr>
        <p:blipFill>
          <a:blip r:embed="rId7"/>
          <a:stretch/>
        </p:blipFill>
        <p:spPr>
          <a:xfrm rot="6990000">
            <a:off x="1440" y="3340080"/>
            <a:ext cx="27842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63748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22" name="Рисунок 2" descr="Dodecahedron and Pentagonal Star.jpg"/>
          <p:cNvPicPr/>
          <p:nvPr/>
        </p:nvPicPr>
        <p:blipFill>
          <a:blip r:embed="rId1"/>
          <a:srcRect l="17968" t="6156" r="17968" b="6151"/>
          <a:stretch/>
        </p:blipFill>
        <p:spPr>
          <a:xfrm>
            <a:off x="1000080" y="1428840"/>
            <a:ext cx="70009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255600" y="73080"/>
            <a:ext cx="8437680" cy="133488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2" descr="0_e068_93ce4ef2_XL.jpeg"/>
          <p:cNvPicPr/>
          <p:nvPr/>
        </p:nvPicPr>
        <p:blipFill>
          <a:blip r:embed="rId2"/>
          <a:stretch/>
        </p:blipFill>
        <p:spPr>
          <a:xfrm>
            <a:off x="0" y="1357200"/>
            <a:ext cx="5286240" cy="395316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3" descr="cfoto.png"/>
          <p:cNvPicPr/>
          <p:nvPr/>
        </p:nvPicPr>
        <p:blipFill>
          <a:blip r:embed="rId3"/>
          <a:stretch/>
        </p:blipFill>
        <p:spPr>
          <a:xfrm>
            <a:off x="0" y="4881600"/>
            <a:ext cx="1976400" cy="197640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4" descr="flagThumb.jpeg"/>
          <p:cNvPicPr/>
          <p:nvPr/>
        </p:nvPicPr>
        <p:blipFill>
          <a:blip r:embed="rId4"/>
          <a:stretch/>
        </p:blipFill>
        <p:spPr>
          <a:xfrm>
            <a:off x="5286240" y="4643280"/>
            <a:ext cx="3429000" cy="221472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5" descr="geo-ax2.png"/>
          <p:cNvPicPr/>
          <p:nvPr/>
        </p:nvPicPr>
        <p:blipFill>
          <a:blip r:embed="rId5"/>
          <a:stretch/>
        </p:blipFill>
        <p:spPr>
          <a:xfrm>
            <a:off x="6072120" y="1571760"/>
            <a:ext cx="3071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4:01:56Z</dcterms:created>
  <dc:creator>Катя</dc:creator>
  <dc:description/>
  <dc:language>en-US</dc:language>
  <cp:lastModifiedBy>Пользователь</cp:lastModifiedBy>
  <dcterms:modified xsi:type="dcterms:W3CDTF">2010-05-23T12:28:05Z</dcterms:modified>
  <cp:revision>12</cp:revision>
  <dc:subject/>
  <dc:title>Слайд 1</dc:title>
</cp:coreProperties>
</file>